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844-3146-4BE5-87B5-C98DA9B9BB2B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9E5-249F-4A4E-9E0B-17C8798182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4979-B575-4BED-A9B4-12D5BE9477E6}" type="slidenum">
              <a:rPr b="1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01B-1C5E-4592-8DF5-B124582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0D-D536-4E48-9BE9-CF5BB857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9C4-504D-459C-ADF4-365C445A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C8A-21FE-4457-881F-9B619176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B320-E4FE-4E8E-8B13-0F0414EB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1B29-4E14-4DA6-B1B6-B6537C2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468-61C3-41BC-BB8B-74E8DDC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008-3141-4974-9B8F-A29FFF8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6A9-7043-4ADD-806A-6FFE995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4B72-24D0-4462-8C8C-3D63301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96B5-0C1C-493B-80B6-BAD37D3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9FF-3C6C-4526-8DC9-0FFAC6A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228-94AE-4961-B660-985141B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7B55-A03D-4310-BC76-A252500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D633-F653-4B5B-B6E4-DB82DBE4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DDCE-0FDC-4227-AF19-BE80BE13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4B24-717D-42DA-9B9A-86F70B0B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AE7E-632E-456F-8987-A25F077D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1F8B-704D-4035-A880-7C5C0371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DE09-68EE-47B8-9032-E803130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13CB-D3FD-40DD-A9A6-6BA00BE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BCB8-013A-4139-AB59-8B8499C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B50-B4ED-4B52-A864-073D9017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CF04-352F-42C6-871C-CC7C173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5AB0-66E6-4613-B690-AC01CEB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9DB4-565C-4521-8161-20155C0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29DA-CC74-4D2F-96A0-F5E700E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D822-3605-4A68-95BB-0EE468B8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6995-E128-40B0-BE53-4ADA1E74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E135-0098-4589-A8C6-741BFDA6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73B-28DC-4E1C-974B-6CA5C762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8F4-115C-4352-91A1-BE948FF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F56-0E24-4B98-A724-E3013CB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C8A-08D4-49C8-940A-C01092A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CD1-182F-4CF1-823F-E162EA2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272-97CD-4D24-A1EE-1A4A9F9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31DF-9D81-4EB6-BDD2-3D571B87018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F233-0736-461A-BD10-AFC41116D64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012-11E7-41A2-B70D-B60F22F0ED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24000" y="4365360"/>
            <a:ext cx="30085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гнатенко Галина Николаевн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24360" y="5877000"/>
            <a:ext cx="291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МБОУ СОШ №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G:\фотки-коллектив\игнатенко.JPG"/>
          <p:cNvPicPr/>
          <p:nvPr/>
        </p:nvPicPr>
        <p:blipFill>
          <a:blip r:embed="rId1"/>
          <a:stretch/>
        </p:blipFill>
        <p:spPr>
          <a:xfrm>
            <a:off x="4643280" y="476280"/>
            <a:ext cx="4392720" cy="3664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08000" y="1207080"/>
            <a:ext cx="464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апредметный подход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уроках математики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етаспособ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то методы, с помощью которых человек открывает новые способы решения задач, строит нестереотипные планы и программы, позволяющие отыскать содержательные способы решения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Метаумения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военные метаспособы, общеучебные, междисциплинарные (надпредметные)  умения и навыки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9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ним относя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еоретическое мыш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обобщение, систематизация, определение понятий, классификация, доказательство и т.п.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авыки переработки информации (анализ, синтез, интерпретация, экстраполяция, оценка, аргументация, умение сворачивать информацию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ритическое мыш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умения отличать факты от мнений, определять соответствие заявления фактам, достоверность источника, видеть двусмысленность утверждения, невысказанные позиции, предвзятость, логические несоответствия и т.п.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ворческое мыш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еренос, видение новой функции, видение проблемы в стандартной ситуации, видение структуры объекта, альтернативное решение, комбинирование известных способов деятельности с новыми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гулятивные ум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задавание вопросов, формулирование гипотез, определение целей, планирование, выбор тактики, контроль, анализ, коррекция свей деятельности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а мыш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гибкость, антиконфоризм, диалектичность, способность к широкому переносу и т.п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Метапредметный подход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учный прогресс привел к раздробленности знания, к потере неких универсальных оснований, позволяющих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идеть мир в его цело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бязательно работа с деятельностью учащегося, передача учащимся не просто знаний, а именно деятельностных способов работы со знаниями и соответственно деятельностных единиц содерж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честве деятельностных единиц содержания могут быть рассмотрены также модели, схемы, различения, системы знаний, задачи, проблемы и разные другие мыследеятельностные образ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езультаты метапредметного обуч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деятельности, применимые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1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атематика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имает лидирующую позицию в формировании учебно-познавательной компетенции учащихс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1763640" y="476280"/>
            <a:ext cx="4753080" cy="1007640"/>
            <a:chOff x="1763640" y="476280"/>
            <a:chExt cx="4753080" cy="1007640"/>
          </a:xfrm>
        </p:grpSpPr>
        <p:sp>
          <p:nvSpPr>
            <p:cNvPr id="207" name="AutoShape 6"/>
            <p:cNvSpPr/>
            <p:nvPr/>
          </p:nvSpPr>
          <p:spPr>
            <a:xfrm>
              <a:off x="1763640" y="476280"/>
              <a:ext cx="4753080" cy="1007640"/>
            </a:xfrm>
            <a:prstGeom prst="horizontalScroll">
              <a:avLst>
                <a:gd name="adj" fmla="val 125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1967040" y="631800"/>
              <a:ext cx="4411440" cy="7034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Математика</a:t>
              </a:r>
              <a:endParaRPr b="1" lang="en-US" sz="4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9" name="Line 8"/>
          <p:cNvSpPr/>
          <p:nvPr/>
        </p:nvSpPr>
        <p:spPr>
          <a:xfrm flipH="1">
            <a:off x="1258920" y="1341360"/>
            <a:ext cx="1225440" cy="136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95280" y="278136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гическое мышление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916360" y="249228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тоды познания мира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508720" y="2708280"/>
            <a:ext cx="23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личные способы решения задач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250920" y="4797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уиция, воображение, вкус к творчеству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924360" y="5013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ение и способность учиться на протяжении жизни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Line 25"/>
          <p:cNvSpPr/>
          <p:nvPr/>
        </p:nvSpPr>
        <p:spPr>
          <a:xfrm flipH="1">
            <a:off x="2268360" y="1413000"/>
            <a:ext cx="719280" cy="35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Line 27"/>
          <p:cNvSpPr/>
          <p:nvPr/>
        </p:nvSpPr>
        <p:spPr>
          <a:xfrm>
            <a:off x="5362560" y="1341360"/>
            <a:ext cx="146160" cy="367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Line 28"/>
          <p:cNvSpPr/>
          <p:nvPr/>
        </p:nvSpPr>
        <p:spPr>
          <a:xfrm flipH="1">
            <a:off x="4211640" y="1413000"/>
            <a:ext cx="144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Line 29"/>
          <p:cNvSpPr/>
          <p:nvPr/>
        </p:nvSpPr>
        <p:spPr>
          <a:xfrm>
            <a:off x="5724360" y="1413000"/>
            <a:ext cx="107964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МП в математик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 обучение математике   сводится к тому, что ребенка знакомят с определениями, правилами и формул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решает типовые задачи, способ решения которых известен. Развитие мышления происходит только у небольшой части детей, обладающих задатками для изучения матема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ая же часть учеников просто заучивает формулировки и алгоритмы действ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этом развивается память, но не мышл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4720" y="1980720"/>
            <a:ext cx="3695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явление метапредметности дает возможность развивать мышление у всех учеников. Здесь учитель создает особые условия, в которых дети могут самостоятельно, но под руководством учителя найти решение задачи. При этом педагог объясняет ребятам понимание сути задачи, построение эффективных моделей. Ученики могут выдвигать способы решения зачастую методом проб и ошибо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детей формируются способы постановки и решения задач, которые пригодятся и за границами урока математики, и вне школ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Метапредметность на уроках математик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гибкости ума через различные способы решения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100000"/>
              </a:lnSpc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приёмов проблемно-ситуационного анализа, основанных на обучении путем решения конкретных задач-ситу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мыследеятельностных процессов через решение логических и нестандартных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деление главного в задаче, вычленение существенных признаков пон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68360" y="1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истема метапредметного обучения по математике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79280" y="155736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облем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построение урок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открытие знаний)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ганизация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ыследеятельности обучающихся на основ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развития способносте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ы с понятиями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я и схематизации условий задачи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ирования объекта задачи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руирования способов решения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раивания процедур достижения цели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бота со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если ученик освоил, например,  решение квадратных уравнений, ему даются задачи этого же типа, но из других областей знаний и из жизни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0" y="1051560"/>
            <a:ext cx="8858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использование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предметного подхода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методические приемы и элементы педагогических технологий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математике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-360"/>
            <a:ext cx="896472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ческие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ности = УУД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Схема 4" descr=""/>
          <p:cNvPicPr/>
          <p:nvPr/>
        </p:nvPicPr>
        <p:blipFill>
          <a:blip r:embed="rId1"/>
          <a:stretch/>
        </p:blipFill>
        <p:spPr>
          <a:xfrm>
            <a:off x="171360" y="1554120"/>
            <a:ext cx="8734680" cy="3719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5"/>
          <p:cNvSpPr/>
          <p:nvPr/>
        </p:nvSpPr>
        <p:spPr>
          <a:xfrm>
            <a:off x="3000240" y="5500800"/>
            <a:ext cx="10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нтуиция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214280" y="557208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выки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857920" y="5214960"/>
            <a:ext cx="142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довольствие от решения задачи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Стрелка вниз 9"/>
          <p:cNvSpPr/>
          <p:nvPr/>
        </p:nvSpPr>
        <p:spPr>
          <a:xfrm>
            <a:off x="6357960" y="478620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Стрелка вниз 10"/>
          <p:cNvSpPr/>
          <p:nvPr/>
        </p:nvSpPr>
        <p:spPr>
          <a:xfrm>
            <a:off x="1571760" y="485784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Стрелка вниз 12"/>
          <p:cNvSpPr/>
          <p:nvPr/>
        </p:nvSpPr>
        <p:spPr>
          <a:xfrm>
            <a:off x="8215200" y="478620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Стрелка вниз 13"/>
          <p:cNvSpPr/>
          <p:nvPr/>
        </p:nvSpPr>
        <p:spPr>
          <a:xfrm>
            <a:off x="4071960" y="47862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Стрелка вниз 14"/>
          <p:cNvSpPr/>
          <p:nvPr/>
        </p:nvSpPr>
        <p:spPr>
          <a:xfrm>
            <a:off x="7358040" y="4786200"/>
            <a:ext cx="214200" cy="85752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Стрелка вниз 15"/>
          <p:cNvSpPr/>
          <p:nvPr/>
        </p:nvSpPr>
        <p:spPr>
          <a:xfrm>
            <a:off x="3429000" y="478620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Стрелка вниз 16"/>
          <p:cNvSpPr/>
          <p:nvPr/>
        </p:nvSpPr>
        <p:spPr>
          <a:xfrm>
            <a:off x="2786040" y="478620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Прямоугольник 17"/>
          <p:cNvSpPr/>
          <p:nvPr/>
        </p:nvSpPr>
        <p:spPr>
          <a:xfrm>
            <a:off x="347760" y="53578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Умения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Прямоугольник 18"/>
          <p:cNvSpPr/>
          <p:nvPr/>
        </p:nvSpPr>
        <p:spPr>
          <a:xfrm>
            <a:off x="3346920" y="5786280"/>
            <a:ext cx="149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Математические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знания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Прямоугольник 19"/>
          <p:cNvSpPr/>
          <p:nvPr/>
        </p:nvSpPr>
        <p:spPr>
          <a:xfrm>
            <a:off x="2565720" y="52862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а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Стрелка вниз 20"/>
          <p:cNvSpPr/>
          <p:nvPr/>
        </p:nvSpPr>
        <p:spPr>
          <a:xfrm>
            <a:off x="571680" y="471492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Стрелка вниз 21"/>
          <p:cNvSpPr/>
          <p:nvPr/>
        </p:nvSpPr>
        <p:spPr>
          <a:xfrm>
            <a:off x="5643720" y="47862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Стрелка вниз 22"/>
          <p:cNvSpPr/>
          <p:nvPr/>
        </p:nvSpPr>
        <p:spPr>
          <a:xfrm>
            <a:off x="4929120" y="478620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4415400" y="52862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амоконтроль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Прямоугольник 24"/>
          <p:cNvSpPr/>
          <p:nvPr/>
        </p:nvSpPr>
        <p:spPr>
          <a:xfrm>
            <a:off x="5132520" y="578628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амокритика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Прямоугольник 25"/>
          <p:cNvSpPr/>
          <p:nvPr/>
        </p:nvSpPr>
        <p:spPr>
          <a:xfrm>
            <a:off x="7699680" y="53578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Оригинальность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Прямоугольник 26"/>
          <p:cNvSpPr/>
          <p:nvPr/>
        </p:nvSpPr>
        <p:spPr>
          <a:xfrm>
            <a:off x="6858000" y="5715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Ориентация на множественность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Стрелка вниз 27"/>
          <p:cNvSpPr/>
          <p:nvPr/>
        </p:nvSpPr>
        <p:spPr>
          <a:xfrm>
            <a:off x="1116000" y="4869000"/>
            <a:ext cx="214200" cy="1224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Box 28"/>
          <p:cNvSpPr/>
          <p:nvPr/>
        </p:nvSpPr>
        <p:spPr>
          <a:xfrm>
            <a:off x="826920" y="6165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пособы 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Схема 3" descr=""/>
          <p:cNvPicPr/>
          <p:nvPr/>
        </p:nvPicPr>
        <p:blipFill>
          <a:blip r:embed="rId1"/>
          <a:stretch/>
        </p:blipFill>
        <p:spPr>
          <a:xfrm>
            <a:off x="347760" y="1468440"/>
            <a:ext cx="852804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56000" y="5572080"/>
            <a:ext cx="6588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к точному восприятию формы и величины плоскостных фигур (линейный глазомер) и ориентация в трехмерном простран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Схема 3" descr=""/>
          <p:cNvPicPr/>
          <p:nvPr/>
        </p:nvPicPr>
        <p:blipFill>
          <a:blip r:embed="rId1"/>
          <a:stretch/>
        </p:blipFill>
        <p:spPr>
          <a:xfrm>
            <a:off x="560520" y="328680"/>
            <a:ext cx="8102520" cy="1701720"/>
          </a:xfrm>
          <a:prstGeom prst="rect">
            <a:avLst/>
          </a:prstGeom>
          <a:ln w="0">
            <a:noFill/>
          </a:ln>
        </p:spPr>
      </p:pic>
      <p:pic>
        <p:nvPicPr>
          <p:cNvPr id="253" name="Схема 5" descr=""/>
          <p:cNvPicPr/>
          <p:nvPr/>
        </p:nvPicPr>
        <p:blipFill>
          <a:blip r:embed="rId2"/>
          <a:stretch/>
        </p:blipFill>
        <p:spPr>
          <a:xfrm>
            <a:off x="1139760" y="3346560"/>
            <a:ext cx="6815160" cy="23842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6"/>
          <p:cNvSpPr/>
          <p:nvPr/>
        </p:nvSpPr>
        <p:spPr>
          <a:xfrm>
            <a:off x="1619280" y="21337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к математическому анализу и синтезу, логическому умозаключению, математическому обобщению, сравнению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тие математического анализа, синтеза, сравнения, обобщения на числовом и символическом материал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лишнее число: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316      64256      45180     29116     51204      82246      3212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 числовой ряд: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 20  24 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Изучите данный ряд фигур, найдите закономерность и продолжите этот ряд в соответствии с найденной закономерностью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Рисунок 3" descr=""/>
          <p:cNvPicPr/>
          <p:nvPr/>
        </p:nvPicPr>
        <p:blipFill>
          <a:blip r:embed="rId1"/>
          <a:stretch/>
        </p:blipFill>
        <p:spPr>
          <a:xfrm>
            <a:off x="1619280" y="5661000"/>
            <a:ext cx="57150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хема 3" descr=""/>
          <p:cNvPicPr/>
          <p:nvPr/>
        </p:nvPicPr>
        <p:blipFill>
          <a:blip r:embed="rId1"/>
          <a:stretch/>
        </p:blipFill>
        <p:spPr>
          <a:xfrm>
            <a:off x="487440" y="182520"/>
            <a:ext cx="8315280" cy="1847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900000" y="31658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кать ошибки у других.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кать ошибки у себя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горитмизировать процесс выполнения заданий.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250920" y="422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получать удовольствие от процесса и результата решения задачи и мотивация к решению задач развиваются  при условиях: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179280" y="553392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кого понимания «Зачем мне это нужно»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мотреть на математику как н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человеческую деятель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, которая приносит реальную пользу и применима на практике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357120" y="207180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контроль и самокритика в решении задач развивается за счет умений: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хема 7" descr=""/>
          <p:cNvPicPr/>
          <p:nvPr/>
        </p:nvPicPr>
        <p:blipFill>
          <a:blip r:embed="rId1"/>
          <a:stretch/>
        </p:blipFill>
        <p:spPr>
          <a:xfrm>
            <a:off x="560520" y="469800"/>
            <a:ext cx="8308800" cy="2273400"/>
          </a:xfrm>
          <a:prstGeom prst="rect">
            <a:avLst/>
          </a:prstGeom>
          <a:ln w="0">
            <a:noFill/>
          </a:ln>
        </p:spPr>
      </p:pic>
      <p:sp>
        <p:nvSpPr>
          <p:cNvPr id="264" name="Овал 8"/>
          <p:cNvSpPr/>
          <p:nvPr/>
        </p:nvSpPr>
        <p:spPr>
          <a:xfrm>
            <a:off x="571680" y="4500720"/>
            <a:ext cx="1000080" cy="92844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500040" y="321480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рисуй фигуру до какого-либо предмета, объекта.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6" name="Группа 40"/>
          <p:cNvGrpSpPr/>
          <p:nvPr/>
        </p:nvGrpSpPr>
        <p:grpSpPr>
          <a:xfrm>
            <a:off x="3203640" y="4437000"/>
            <a:ext cx="1785960" cy="1565280"/>
            <a:chOff x="3203640" y="4437000"/>
            <a:chExt cx="1785960" cy="1565280"/>
          </a:xfrm>
        </p:grpSpPr>
        <p:sp>
          <p:nvSpPr>
            <p:cNvPr id="267" name="Прямая соединительная линия 15"/>
            <p:cNvSpPr/>
            <p:nvPr/>
          </p:nvSpPr>
          <p:spPr>
            <a:xfrm flipV="1">
              <a:off x="3274920" y="5365800"/>
              <a:ext cx="357120" cy="142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8" name="Группа 39"/>
            <p:cNvGrpSpPr/>
            <p:nvPr/>
          </p:nvGrpSpPr>
          <p:grpSpPr>
            <a:xfrm>
              <a:off x="3203640" y="4437000"/>
              <a:ext cx="1785960" cy="1565280"/>
              <a:chOff x="3203640" y="4437000"/>
              <a:chExt cx="1785960" cy="1565280"/>
            </a:xfrm>
          </p:grpSpPr>
          <p:sp>
            <p:nvSpPr>
              <p:cNvPr id="269" name="Овал 10"/>
              <p:cNvSpPr/>
              <p:nvPr/>
            </p:nvSpPr>
            <p:spPr>
              <a:xfrm>
                <a:off x="3632040" y="4792680"/>
                <a:ext cx="785880" cy="7858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Прямая соединительная линия 12"/>
              <p:cNvSpPr/>
              <p:nvPr/>
            </p:nvSpPr>
            <p:spPr>
              <a:xfrm>
                <a:off x="3488400" y="4578120"/>
                <a:ext cx="285480" cy="285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1" name="Прямая соединительная линия 13"/>
              <p:cNvSpPr/>
              <p:nvPr/>
            </p:nvSpPr>
            <p:spPr>
              <a:xfrm>
                <a:off x="3203640" y="5006880"/>
                <a:ext cx="4284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2" name="Прямая соединительная линия 14"/>
              <p:cNvSpPr/>
              <p:nvPr/>
            </p:nvSpPr>
            <p:spPr>
              <a:xfrm flipH="1">
                <a:off x="4203360" y="4506840"/>
                <a:ext cx="215640" cy="35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Прямая соединительная линия 16"/>
              <p:cNvSpPr/>
              <p:nvPr/>
            </p:nvSpPr>
            <p:spPr>
              <a:xfrm flipH="1">
                <a:off x="3987720" y="4437000"/>
                <a:ext cx="2880" cy="357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Прямая соединительная линия 17"/>
              <p:cNvSpPr/>
              <p:nvPr/>
            </p:nvSpPr>
            <p:spPr>
              <a:xfrm flipV="1">
                <a:off x="4346640" y="4720680"/>
                <a:ext cx="357120" cy="285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Прямая соединительная линия 25"/>
              <p:cNvSpPr/>
              <p:nvPr/>
            </p:nvSpPr>
            <p:spPr>
              <a:xfrm>
                <a:off x="4418280" y="5435640"/>
                <a:ext cx="285480" cy="214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Прямая соединительная линия 26"/>
              <p:cNvSpPr/>
              <p:nvPr/>
            </p:nvSpPr>
            <p:spPr>
              <a:xfrm>
                <a:off x="4203000" y="5578560"/>
                <a:ext cx="53640" cy="423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Прямая соединительная линия 27"/>
              <p:cNvSpPr/>
              <p:nvPr/>
            </p:nvSpPr>
            <p:spPr>
              <a:xfrm flipH="1">
                <a:off x="3703680" y="5578560"/>
                <a:ext cx="142560" cy="357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Прямая соединительная линия 28"/>
              <p:cNvSpPr/>
              <p:nvPr/>
            </p:nvSpPr>
            <p:spPr>
              <a:xfrm flipV="1">
                <a:off x="4418280" y="5077800"/>
                <a:ext cx="571320" cy="10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9" name="Группа 50"/>
          <p:cNvGrpSpPr/>
          <p:nvPr/>
        </p:nvGrpSpPr>
        <p:grpSpPr>
          <a:xfrm>
            <a:off x="1209600" y="5343840"/>
            <a:ext cx="1736280" cy="2071440"/>
            <a:chOff x="1209600" y="5343840"/>
            <a:chExt cx="1736280" cy="2071440"/>
          </a:xfrm>
        </p:grpSpPr>
        <p:sp>
          <p:nvSpPr>
            <p:cNvPr id="280" name="Дуга 48"/>
            <p:cNvSpPr/>
            <p:nvPr/>
          </p:nvSpPr>
          <p:spPr>
            <a:xfrm>
              <a:off x="2209680" y="6272280"/>
              <a:ext cx="214200" cy="1143000"/>
            </a:xfrm>
            <a:custGeom>
              <a:avLst/>
              <a:gdLst/>
              <a:ahLst/>
              <a:rect l="l" t="t" r="r" b="b"/>
              <a:pathLst>
                <a:path stroke="0" w="214274" h="1143226">
                  <a:moveTo>
                    <a:pt x="107137" y="0"/>
                  </a:moveTo>
                  <a:cubicBezTo>
                    <a:pt x="166307" y="0"/>
                    <a:pt x="214274" y="255920"/>
                    <a:pt x="214274" y="571613"/>
                  </a:cubicBezTo>
                  <a:lnTo>
                    <a:pt x="107137" y="571613"/>
                  </a:lnTo>
                  <a:lnTo>
                    <a:pt x="107137" y="0"/>
                  </a:lnTo>
                  <a:close/>
                </a:path>
                <a:path fill="none" w="214274" h="1143226">
                  <a:moveTo>
                    <a:pt x="107137" y="0"/>
                  </a:moveTo>
                  <a:cubicBezTo>
                    <a:pt x="166307" y="0"/>
                    <a:pt x="214274" y="255920"/>
                    <a:pt x="214274" y="571613"/>
                  </a:cubicBezTo>
                </a:path>
              </a:pathLst>
            </a:custGeom>
            <a:solidFill>
              <a:srgbClr val="000066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Овал 41"/>
            <p:cNvSpPr/>
            <p:nvPr/>
          </p:nvSpPr>
          <p:spPr>
            <a:xfrm>
              <a:off x="1924200" y="5915160"/>
              <a:ext cx="214200" cy="21420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Капля 42"/>
            <p:cNvSpPr/>
            <p:nvPr/>
          </p:nvSpPr>
          <p:spPr>
            <a:xfrm rot="9377400">
              <a:off x="2042640" y="5443200"/>
              <a:ext cx="571320" cy="357120"/>
            </a:xfrm>
            <a:custGeom>
              <a:avLst/>
              <a:gdLst/>
              <a:ahLst/>
              <a:rect l="l" t="t" r="r" b="b"/>
              <a:pathLst>
                <a:path w="571396" h="357258">
                  <a:moveTo>
                    <a:pt x="0" y="178629"/>
                  </a:moveTo>
                  <a:cubicBezTo>
                    <a:pt x="0" y="79975"/>
                    <a:pt x="127911" y="0"/>
                    <a:pt x="285698" y="0"/>
                  </a:cubicBezTo>
                  <a:lnTo>
                    <a:pt x="571396" y="0"/>
                  </a:lnTo>
                  <a:lnTo>
                    <a:pt x="571396" y="178629"/>
                  </a:lnTo>
                  <a:cubicBezTo>
                    <a:pt x="571396" y="277283"/>
                    <a:pt x="443485" y="357258"/>
                    <a:pt x="285698" y="357258"/>
                  </a:cubicBezTo>
                  <a:cubicBezTo>
                    <a:pt x="127911" y="357258"/>
                    <a:pt x="0" y="277283"/>
                    <a:pt x="0" y="178629"/>
                  </a:cubicBezTo>
                  <a:close/>
                </a:path>
              </a:pathLst>
            </a:custGeom>
            <a:solidFill>
              <a:srgbClr val="00006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Капля 43"/>
            <p:cNvSpPr/>
            <p:nvPr/>
          </p:nvSpPr>
          <p:spPr>
            <a:xfrm rot="12435600">
              <a:off x="2246040" y="5906880"/>
              <a:ext cx="663480" cy="318960"/>
            </a:xfrm>
            <a:custGeom>
              <a:avLst/>
              <a:gdLst/>
              <a:ahLst/>
              <a:rect l="l" t="t" r="r" b="b"/>
              <a:pathLst>
                <a:path w="663454" h="319150">
                  <a:moveTo>
                    <a:pt x="0" y="159575"/>
                  </a:moveTo>
                  <a:cubicBezTo>
                    <a:pt x="0" y="71444"/>
                    <a:pt x="148519" y="0"/>
                    <a:pt x="331727" y="0"/>
                  </a:cubicBezTo>
                  <a:lnTo>
                    <a:pt x="663454" y="0"/>
                  </a:lnTo>
                  <a:lnTo>
                    <a:pt x="663454" y="159575"/>
                  </a:lnTo>
                  <a:cubicBezTo>
                    <a:pt x="663454" y="247706"/>
                    <a:pt x="514935" y="319150"/>
                    <a:pt x="331727" y="319150"/>
                  </a:cubicBezTo>
                  <a:cubicBezTo>
                    <a:pt x="148519" y="319150"/>
                    <a:pt x="0" y="247706"/>
                    <a:pt x="0" y="159575"/>
                  </a:cubicBezTo>
                  <a:close/>
                </a:path>
              </a:pathLst>
            </a:custGeom>
            <a:solidFill>
              <a:srgbClr val="00006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Капля 45"/>
            <p:cNvSpPr/>
            <p:nvPr/>
          </p:nvSpPr>
          <p:spPr>
            <a:xfrm rot="17980800">
              <a:off x="1792800" y="6328080"/>
              <a:ext cx="571320" cy="357120"/>
            </a:xfrm>
            <a:custGeom>
              <a:avLst/>
              <a:gdLst/>
              <a:ahLst/>
              <a:rect l="l" t="t" r="r" b="b"/>
              <a:pathLst>
                <a:path w="571613" h="357122">
                  <a:moveTo>
                    <a:pt x="0" y="178561"/>
                  </a:moveTo>
                  <a:cubicBezTo>
                    <a:pt x="0" y="79944"/>
                    <a:pt x="127960" y="0"/>
                    <a:pt x="285807" y="0"/>
                  </a:cubicBezTo>
                  <a:lnTo>
                    <a:pt x="571613" y="0"/>
                  </a:lnTo>
                  <a:lnTo>
                    <a:pt x="571613" y="178561"/>
                  </a:lnTo>
                  <a:cubicBezTo>
                    <a:pt x="571613" y="277178"/>
                    <a:pt x="443653" y="357122"/>
                    <a:pt x="285806" y="357122"/>
                  </a:cubicBezTo>
                  <a:cubicBezTo>
                    <a:pt x="127959" y="357122"/>
                    <a:pt x="-1" y="277178"/>
                    <a:pt x="-1" y="178561"/>
                  </a:cubicBezTo>
                  <a:lnTo>
                    <a:pt x="0" y="178561"/>
                  </a:lnTo>
                  <a:close/>
                </a:path>
              </a:pathLst>
            </a:custGeom>
            <a:solidFill>
              <a:srgbClr val="00006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Капля 46"/>
            <p:cNvSpPr/>
            <p:nvPr/>
          </p:nvSpPr>
          <p:spPr>
            <a:xfrm rot="1378800">
              <a:off x="1258560" y="6012000"/>
              <a:ext cx="571320" cy="368280"/>
            </a:xfrm>
            <a:custGeom>
              <a:avLst/>
              <a:gdLst/>
              <a:ahLst/>
              <a:rect l="l" t="t" r="r" b="b"/>
              <a:pathLst>
                <a:path w="571396" h="368373">
                  <a:moveTo>
                    <a:pt x="0" y="184187"/>
                  </a:moveTo>
                  <a:cubicBezTo>
                    <a:pt x="0" y="82463"/>
                    <a:pt x="127911" y="0"/>
                    <a:pt x="285698" y="0"/>
                  </a:cubicBezTo>
                  <a:lnTo>
                    <a:pt x="571396" y="0"/>
                  </a:lnTo>
                  <a:lnTo>
                    <a:pt x="571396" y="184187"/>
                  </a:lnTo>
                  <a:cubicBezTo>
                    <a:pt x="571396" y="285911"/>
                    <a:pt x="443485" y="368374"/>
                    <a:pt x="285698" y="368374"/>
                  </a:cubicBezTo>
                  <a:cubicBezTo>
                    <a:pt x="127911" y="368374"/>
                    <a:pt x="0" y="285911"/>
                    <a:pt x="0" y="184187"/>
                  </a:cubicBezTo>
                  <a:close/>
                </a:path>
              </a:pathLst>
            </a:custGeom>
            <a:solidFill>
              <a:srgbClr val="00006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Капля 47"/>
            <p:cNvSpPr/>
            <p:nvPr/>
          </p:nvSpPr>
          <p:spPr>
            <a:xfrm rot="4713000">
              <a:off x="1442160" y="5480640"/>
              <a:ext cx="571320" cy="357120"/>
            </a:xfrm>
            <a:custGeom>
              <a:avLst/>
              <a:gdLst/>
              <a:ahLst/>
              <a:rect l="l" t="t" r="r" b="b"/>
              <a:pathLst>
                <a:path w="571613" h="357123">
                  <a:moveTo>
                    <a:pt x="0" y="178562"/>
                  </a:moveTo>
                  <a:cubicBezTo>
                    <a:pt x="0" y="79945"/>
                    <a:pt x="127960" y="0"/>
                    <a:pt x="285807" y="0"/>
                  </a:cubicBezTo>
                  <a:lnTo>
                    <a:pt x="571613" y="0"/>
                  </a:lnTo>
                  <a:lnTo>
                    <a:pt x="571613" y="178562"/>
                  </a:lnTo>
                  <a:cubicBezTo>
                    <a:pt x="571613" y="277179"/>
                    <a:pt x="443653" y="357124"/>
                    <a:pt x="285806" y="357124"/>
                  </a:cubicBezTo>
                  <a:cubicBezTo>
                    <a:pt x="127959" y="357124"/>
                    <a:pt x="-1" y="277179"/>
                    <a:pt x="-1" y="178562"/>
                  </a:cubicBezTo>
                  <a:lnTo>
                    <a:pt x="0" y="178562"/>
                  </a:lnTo>
                  <a:close/>
                </a:path>
              </a:pathLst>
            </a:custGeom>
            <a:solidFill>
              <a:srgbClr val="00006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7" name="Овал 52"/>
          <p:cNvSpPr/>
          <p:nvPr/>
        </p:nvSpPr>
        <p:spPr>
          <a:xfrm flipV="1">
            <a:off x="6286680" y="5500800"/>
            <a:ext cx="357120" cy="3571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8" name="Группа 62"/>
          <p:cNvGrpSpPr/>
          <p:nvPr/>
        </p:nvGrpSpPr>
        <p:grpSpPr>
          <a:xfrm>
            <a:off x="5554800" y="4500720"/>
            <a:ext cx="3039840" cy="1602000"/>
            <a:chOff x="5554800" y="4500720"/>
            <a:chExt cx="3039840" cy="1602000"/>
          </a:xfrm>
        </p:grpSpPr>
        <p:sp>
          <p:nvSpPr>
            <p:cNvPr id="289" name="Овал 53"/>
            <p:cNvSpPr/>
            <p:nvPr/>
          </p:nvSpPr>
          <p:spPr>
            <a:xfrm flipV="1">
              <a:off x="7500960" y="5500800"/>
              <a:ext cx="357120" cy="35712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Прямая соединительная линия 55"/>
            <p:cNvSpPr/>
            <p:nvPr/>
          </p:nvSpPr>
          <p:spPr>
            <a:xfrm>
              <a:off x="5643360" y="5643720"/>
              <a:ext cx="57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Прямая соединительная линия 56"/>
            <p:cNvSpPr/>
            <p:nvPr/>
          </p:nvSpPr>
          <p:spPr>
            <a:xfrm>
              <a:off x="7929720" y="5643720"/>
              <a:ext cx="57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Прямая соединительная линия 57"/>
            <p:cNvSpPr/>
            <p:nvPr/>
          </p:nvSpPr>
          <p:spPr>
            <a:xfrm>
              <a:off x="6786360" y="5643720"/>
              <a:ext cx="57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Дуга 58"/>
            <p:cNvSpPr/>
            <p:nvPr/>
          </p:nvSpPr>
          <p:spPr>
            <a:xfrm rot="15778200">
              <a:off x="5895720" y="4695840"/>
              <a:ext cx="1028880" cy="1596960"/>
            </a:xfrm>
            <a:custGeom>
              <a:avLst/>
              <a:gdLst/>
              <a:ahLst/>
              <a:rect l="l" t="t" r="r" b="b"/>
              <a:pathLst>
                <a:path stroke="0" w="1028999" h="1597407">
                  <a:moveTo>
                    <a:pt x="514499" y="0"/>
                  </a:moveTo>
                  <a:cubicBezTo>
                    <a:pt x="778478" y="0"/>
                    <a:pt x="999627" y="310142"/>
                    <a:pt x="1026355" y="717834"/>
                  </a:cubicBezTo>
                  <a:lnTo>
                    <a:pt x="514500" y="798704"/>
                  </a:lnTo>
                  <a:cubicBezTo>
                    <a:pt x="514500" y="532469"/>
                    <a:pt x="514499" y="266235"/>
                    <a:pt x="514499" y="0"/>
                  </a:cubicBezTo>
                  <a:close/>
                </a:path>
                <a:path fill="none" w="1028999" h="1597407">
                  <a:moveTo>
                    <a:pt x="514499" y="0"/>
                  </a:moveTo>
                  <a:cubicBezTo>
                    <a:pt x="778478" y="0"/>
                    <a:pt x="999627" y="310142"/>
                    <a:pt x="1026355" y="7178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Дуга 59"/>
            <p:cNvSpPr/>
            <p:nvPr/>
          </p:nvSpPr>
          <p:spPr>
            <a:xfrm rot="730200">
              <a:off x="7653240" y="5010120"/>
              <a:ext cx="860400" cy="860400"/>
            </a:xfrm>
            <a:custGeom>
              <a:avLst/>
              <a:gdLst/>
              <a:ahLst/>
              <a:rect l="l" t="t" r="r" b="b"/>
              <a:pathLst>
                <a:path stroke="0" w="860631" h="860675">
                  <a:moveTo>
                    <a:pt x="430315" y="0"/>
                  </a:moveTo>
                  <a:cubicBezTo>
                    <a:pt x="558507" y="0"/>
                    <a:pt x="680024" y="57156"/>
                    <a:pt x="761774" y="155904"/>
                  </a:cubicBezTo>
                  <a:cubicBezTo>
                    <a:pt x="843519" y="254644"/>
                    <a:pt x="876990" y="384689"/>
                    <a:pt x="853075" y="510627"/>
                  </a:cubicBezTo>
                  <a:lnTo>
                    <a:pt x="430316" y="430338"/>
                  </a:lnTo>
                  <a:cubicBezTo>
                    <a:pt x="430316" y="286892"/>
                    <a:pt x="430315" y="143446"/>
                    <a:pt x="430315" y="0"/>
                  </a:cubicBezTo>
                  <a:close/>
                </a:path>
                <a:path fill="none" w="860631" h="860675">
                  <a:moveTo>
                    <a:pt x="430315" y="0"/>
                  </a:moveTo>
                  <a:cubicBezTo>
                    <a:pt x="558507" y="0"/>
                    <a:pt x="680024" y="57156"/>
                    <a:pt x="761774" y="155904"/>
                  </a:cubicBezTo>
                  <a:cubicBezTo>
                    <a:pt x="843519" y="254644"/>
                    <a:pt x="876990" y="384689"/>
                    <a:pt x="853075" y="510627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Дуга 61"/>
            <p:cNvSpPr/>
            <p:nvPr/>
          </p:nvSpPr>
          <p:spPr>
            <a:xfrm rot="16200000">
              <a:off x="6607800" y="4179240"/>
              <a:ext cx="1214640" cy="1857600"/>
            </a:xfrm>
            <a:custGeom>
              <a:avLst/>
              <a:gdLst/>
              <a:ahLst/>
              <a:rect l="l" t="t" r="r" b="b"/>
              <a:pathLst>
                <a:path stroke="0" w="1214790" h="1857820">
                  <a:moveTo>
                    <a:pt x="654798" y="2833"/>
                  </a:moveTo>
                  <a:cubicBezTo>
                    <a:pt x="967729" y="40297"/>
                    <a:pt x="1210451" y="436239"/>
                    <a:pt x="1214733" y="916235"/>
                  </a:cubicBezTo>
                  <a:cubicBezTo>
                    <a:pt x="1218902" y="1383426"/>
                    <a:pt x="995513" y="1782646"/>
                    <a:pt x="693051" y="1848537"/>
                  </a:cubicBezTo>
                  <a:lnTo>
                    <a:pt x="607395" y="928910"/>
                  </a:lnTo>
                  <a:lnTo>
                    <a:pt x="654798" y="2833"/>
                  </a:lnTo>
                  <a:close/>
                </a:path>
                <a:path fill="none" w="1214790" h="1857820">
                  <a:moveTo>
                    <a:pt x="654798" y="2833"/>
                  </a:moveTo>
                  <a:cubicBezTo>
                    <a:pt x="967729" y="40297"/>
                    <a:pt x="1210451" y="436239"/>
                    <a:pt x="1214733" y="916235"/>
                  </a:cubicBezTo>
                  <a:cubicBezTo>
                    <a:pt x="1218902" y="1383426"/>
                    <a:pt x="995513" y="1782646"/>
                    <a:pt x="693051" y="1848537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785960" cy="17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7" name="Прямоугольник 4"/>
          <p:cNvSpPr/>
          <p:nvPr/>
        </p:nvSpPr>
        <p:spPr>
          <a:xfrm>
            <a:off x="357120" y="128592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На рисунке изображены пять квадратов, составленных из шестнадцати спичек. Переставьте три спички так, чтобы получилось четыре одинаковых квадрата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4579920" y="4714920"/>
            <a:ext cx="1887480" cy="171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9" name="Прямоугольник 7"/>
          <p:cNvSpPr/>
          <p:nvPr/>
        </p:nvSpPr>
        <p:spPr>
          <a:xfrm>
            <a:off x="4572000" y="2286000"/>
            <a:ext cx="43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Из спичек сложен бокал, внутри которого лежит оливка. Переместите две спички так, чтобы оливка оказалась вне бокала. Можно менять положение бокала в пространстве, но его форма должна оставаться неизменной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Прямоугольник 11"/>
          <p:cNvSpPr/>
          <p:nvPr/>
        </p:nvSpPr>
        <p:spPr>
          <a:xfrm>
            <a:off x="179280" y="4365720"/>
            <a:ext cx="4429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Назови как можно больше предметов, имеющих данный признак.</a:t>
            </a:r>
            <a:endParaRPr b="1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285840" y="5291280"/>
            <a:ext cx="414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бывает тяжелым (легким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бывает глубоким (мелким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бывает колючим (острым, хрупким...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49968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бы научиться математике, надо научиться решать задач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680" y="2928600"/>
            <a:ext cx="55771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бы научиться решать задачи, надо их решат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Пой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4" descr="mathtchr"/>
          <p:cNvPicPr/>
          <p:nvPr/>
        </p:nvPicPr>
        <p:blipFill>
          <a:blip r:embed="rId1"/>
          <a:stretch/>
        </p:blipFill>
        <p:spPr>
          <a:xfrm>
            <a:off x="6912000" y="1989000"/>
            <a:ext cx="2232000" cy="41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1068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йти хотя бы одно решение уравнения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к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30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31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365</a:t>
            </a:r>
            <a:br>
              <a:rPr sz="5400"/>
            </a:br>
            <a:br>
              <a:rPr sz="3200"/>
            </a:b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47728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 :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ьте себе, что вы охватили земной шар по экватору. А теперь прибавьте к длине окружности 1 метр и снова охватите земной шар, у вас должен получиться зазор. Пролезет ли туда тигр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аша новая школа»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643040"/>
            <a:ext cx="777708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лавная задача современной школы - это раскрытие способностей каждого ученика, воспитание личности, готовой к жизни в высокотехнологичном, конкурентном мир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 Послания Президента Российской Федерации к Федеральному Собранию, 12ноября 2009 го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метрическое решение задачи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08" name="Содержимое 4" descr="окружность.bmp"/>
          <p:cNvPicPr/>
          <p:nvPr/>
        </p:nvPicPr>
        <p:blipFill>
          <a:blip r:embed="rId1"/>
          <a:stretch/>
        </p:blipFill>
        <p:spPr>
          <a:xfrm>
            <a:off x="2268360" y="2349360"/>
            <a:ext cx="64818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758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метрическое решение задачи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= 2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С : 2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+ 1 = 2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 +1) : 2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 +1) : 2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: 2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 =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: 2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 = 100 : 6,28 = 15,9 см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0592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шим уравнение -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шло озарение?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увидел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Кто догадался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Кто решил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5480" y="714240"/>
            <a:ext cx="830556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твет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5 – это количество дней в году,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– количество дней в феврале,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– количество дней имеют 4 месяца в году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1 – количество дней имеют 7 месяцев в году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: 28 ·1 + 30 · 4 + 31 · 7 = 365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510400" cy="39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едмет математики настолько серьезен, что полезно не упускать случаев делать его немного занимательным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Б. Паскаль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Восстановить цепочк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0" y="1052640"/>
            <a:ext cx="1512720" cy="1224000"/>
          </a:xfrm>
          <a:prstGeom prst="flowChartAlternateProcess">
            <a:avLst/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41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1619280" y="1628640"/>
            <a:ext cx="11523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2987640" y="1125360"/>
            <a:ext cx="1871640" cy="10065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4932360" y="1557360"/>
            <a:ext cx="1079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7308720" y="2276640"/>
            <a:ext cx="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7380360" y="3860640"/>
            <a:ext cx="0" cy="648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443640" y="1197000"/>
            <a:ext cx="1871640" cy="10065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6588000" y="2781360"/>
            <a:ext cx="1871640" cy="10065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70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6659640" y="4581360"/>
            <a:ext cx="1871640" cy="10065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AutoShape 14"/>
          <p:cNvSpPr/>
          <p:nvPr/>
        </p:nvSpPr>
        <p:spPr>
          <a:xfrm>
            <a:off x="3214800" y="4357800"/>
            <a:ext cx="1728720" cy="1584360"/>
          </a:xfrm>
          <a:prstGeom prst="flowChartAlternateProcess">
            <a:avLst/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Line 15"/>
          <p:cNvSpPr/>
          <p:nvPr/>
        </p:nvSpPr>
        <p:spPr>
          <a:xfrm flipH="1">
            <a:off x="4859280" y="5229360"/>
            <a:ext cx="172872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WordArt 16"/>
          <p:cNvSpPr txBox="1"/>
          <p:nvPr/>
        </p:nvSpPr>
        <p:spPr>
          <a:xfrm>
            <a:off x="1835280" y="119700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25"/>
          <p:cNvSpPr txBox="1"/>
          <p:nvPr/>
        </p:nvSpPr>
        <p:spPr>
          <a:xfrm>
            <a:off x="2268360" y="105264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26"/>
          <p:cNvSpPr txBox="1"/>
          <p:nvPr/>
        </p:nvSpPr>
        <p:spPr>
          <a:xfrm>
            <a:off x="5508720" y="10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27"/>
          <p:cNvSpPr txBox="1"/>
          <p:nvPr/>
        </p:nvSpPr>
        <p:spPr>
          <a:xfrm>
            <a:off x="8101080" y="22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28"/>
          <p:cNvSpPr txBox="1"/>
          <p:nvPr/>
        </p:nvSpPr>
        <p:spPr>
          <a:xfrm>
            <a:off x="8244000" y="4005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29"/>
          <p:cNvSpPr txBox="1"/>
          <p:nvPr/>
        </p:nvSpPr>
        <p:spPr>
          <a:xfrm>
            <a:off x="5724360" y="4653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30"/>
          <p:cNvSpPr txBox="1"/>
          <p:nvPr/>
        </p:nvSpPr>
        <p:spPr>
          <a:xfrm>
            <a:off x="7596360" y="2276640"/>
            <a:ext cx="28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AutoShape 31"/>
          <p:cNvSpPr/>
          <p:nvPr/>
        </p:nvSpPr>
        <p:spPr>
          <a:xfrm>
            <a:off x="5214960" y="1071720"/>
            <a:ext cx="144360" cy="215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WordArt 33"/>
          <p:cNvSpPr txBox="1"/>
          <p:nvPr/>
        </p:nvSpPr>
        <p:spPr>
          <a:xfrm>
            <a:off x="7858080" y="3929040"/>
            <a:ext cx="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34"/>
          <p:cNvSpPr txBox="1"/>
          <p:nvPr/>
        </p:nvSpPr>
        <p:spPr>
          <a:xfrm>
            <a:off x="5364000" y="4653000"/>
            <a:ext cx="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36"/>
          <p:cNvSpPr txBox="1"/>
          <p:nvPr/>
        </p:nvSpPr>
        <p:spPr>
          <a:xfrm>
            <a:off x="2268360" y="981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37"/>
          <p:cNvSpPr txBox="1"/>
          <p:nvPr/>
        </p:nvSpPr>
        <p:spPr>
          <a:xfrm>
            <a:off x="5500800" y="907920"/>
            <a:ext cx="439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38"/>
          <p:cNvSpPr txBox="1"/>
          <p:nvPr/>
        </p:nvSpPr>
        <p:spPr>
          <a:xfrm>
            <a:off x="8101080" y="220500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39"/>
          <p:cNvSpPr txBox="1"/>
          <p:nvPr/>
        </p:nvSpPr>
        <p:spPr>
          <a:xfrm>
            <a:off x="8286840" y="3929040"/>
            <a:ext cx="357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40"/>
          <p:cNvSpPr txBox="1"/>
          <p:nvPr/>
        </p:nvSpPr>
        <p:spPr>
          <a:xfrm>
            <a:off x="5724360" y="4508640"/>
            <a:ext cx="4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3"/>
          <p:cNvSpPr txBox="1"/>
          <p:nvPr/>
        </p:nvSpPr>
        <p:spPr>
          <a:xfrm>
            <a:off x="179280" y="404640"/>
            <a:ext cx="896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много подумайте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71760" y="3000240"/>
          <a:ext cx="6095880" cy="10940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,5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6,9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WordArt 81"/>
          <p:cNvSpPr txBox="1"/>
          <p:nvPr/>
        </p:nvSpPr>
        <p:spPr>
          <a:xfrm>
            <a:off x="0" y="4221000"/>
            <a:ext cx="91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c000"/>
                </a:solidFill>
                <a:latin typeface="Times New Roman"/>
              </a:rPr>
              <a:t>назовите числа, противоположные данным и расшифруйте фамилию математика</a:t>
            </a:r>
            <a:endParaRPr b="1" lang="en-US" sz="3200" spc="1" strike="noStrike">
              <a:ln w="0">
                <a:noFill/>
              </a:ln>
              <a:solidFill>
                <a:srgbClr val="ffc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00120" y="5500800"/>
          <a:ext cx="6432480" cy="1036440"/>
        </p:xfrm>
        <a:graphic>
          <a:graphicData uri="http://schemas.openxmlformats.org/drawingml/2006/table">
            <a:tbl>
              <a:tblPr/>
              <a:tblGrid>
                <a:gridCol w="1352520"/>
                <a:gridCol w="1015920"/>
                <a:gridCol w="1016280"/>
                <a:gridCol w="1015920"/>
                <a:gridCol w="1015920"/>
                <a:gridCol w="1015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,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9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5,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числите наиболее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добным способо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5 • 25 • 77 • 4 • 8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• 399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 • 23 + 17 • 18 + 24 •17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F:\одарённики\фото-галя\PB270052.JPG"/>
          <p:cNvPicPr/>
          <p:nvPr/>
        </p:nvPicPr>
        <p:blipFill>
          <a:blip r:embed="rId1"/>
          <a:srcRect l="8788" t="20024" r="0" b="0"/>
          <a:stretch/>
        </p:blipFill>
        <p:spPr>
          <a:xfrm>
            <a:off x="179280" y="260280"/>
            <a:ext cx="5184720" cy="340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F:\одарённики\фото-галя\PB270053.JPG"/>
          <p:cNvPicPr/>
          <p:nvPr/>
        </p:nvPicPr>
        <p:blipFill>
          <a:blip r:embed="rId2"/>
          <a:srcRect l="9096" t="19391" r="15871" b="9189"/>
          <a:stretch/>
        </p:blipFill>
        <p:spPr>
          <a:xfrm>
            <a:off x="5508720" y="2517840"/>
            <a:ext cx="3419280" cy="43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F:\одарённики\фото-галя\PB270054.JPG"/>
          <p:cNvPicPr/>
          <p:nvPr/>
        </p:nvPicPr>
        <p:blipFill>
          <a:blip r:embed="rId3"/>
          <a:srcRect l="5655" t="7533" r="7684" b="14588"/>
          <a:stretch/>
        </p:blipFill>
        <p:spPr>
          <a:xfrm>
            <a:off x="324000" y="3573360"/>
            <a:ext cx="4535280" cy="305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F:\одарённики\фото-галя\PB270056.JPG"/>
          <p:cNvPicPr/>
          <p:nvPr/>
        </p:nvPicPr>
        <p:blipFill>
          <a:blip r:embed="rId4"/>
          <a:srcRect l="13424" t="37286" r="10527" b="0"/>
          <a:stretch/>
        </p:blipFill>
        <p:spPr>
          <a:xfrm>
            <a:off x="5364000" y="189000"/>
            <a:ext cx="3610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F:\одарённики\фото-галя\PB270055.JPG"/>
          <p:cNvPicPr/>
          <p:nvPr/>
        </p:nvPicPr>
        <p:blipFill>
          <a:blip r:embed="rId1"/>
          <a:srcRect l="2746" t="18961" r="10300" b="0"/>
          <a:stretch/>
        </p:blipFill>
        <p:spPr>
          <a:xfrm>
            <a:off x="179280" y="189000"/>
            <a:ext cx="4356360" cy="3043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F:\одарённики\фото-галя\PB270057.JPG"/>
          <p:cNvPicPr/>
          <p:nvPr/>
        </p:nvPicPr>
        <p:blipFill>
          <a:blip r:embed="rId2"/>
          <a:srcRect l="11977" t="23048" r="5932" b="621"/>
          <a:stretch/>
        </p:blipFill>
        <p:spPr>
          <a:xfrm>
            <a:off x="4500720" y="3573360"/>
            <a:ext cx="4440240" cy="3095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F:\одарённики\фото-галя\PB270060.JPG"/>
          <p:cNvPicPr/>
          <p:nvPr/>
        </p:nvPicPr>
        <p:blipFill>
          <a:blip r:embed="rId3"/>
          <a:srcRect l="8285" t="16570" r="7481" b="4249"/>
          <a:stretch/>
        </p:blipFill>
        <p:spPr>
          <a:xfrm>
            <a:off x="179280" y="3500280"/>
            <a:ext cx="4187880" cy="295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одарённики\фото-галя\PB270058.JPG"/>
          <p:cNvPicPr/>
          <p:nvPr/>
        </p:nvPicPr>
        <p:blipFill>
          <a:blip r:embed="rId4"/>
          <a:srcRect l="14222" t="26261" r="9207" b="13940"/>
          <a:stretch/>
        </p:blipFill>
        <p:spPr>
          <a:xfrm>
            <a:off x="4572000" y="404640"/>
            <a:ext cx="4248000" cy="24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611280" y="191628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можность раскрыть способности, подготовиться к жизни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етвленная система поиска 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ддержки талантливых дете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х сопровождения в течение всего периода становления личности 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а стимулов для лучших педагогов, постоянного повышения их квалификации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вы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нципы работы шко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каждому ученику –  индивидуальный подход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826920" y="40464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 пунктов президентской инициативы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механической памят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8" name="Chart 1" descr=""/>
          <p:cNvPicPr/>
          <p:nvPr/>
        </p:nvPicPr>
        <p:blipFill>
          <a:blip r:embed="rId1"/>
          <a:stretch/>
        </p:blipFill>
        <p:spPr>
          <a:xfrm>
            <a:off x="249120" y="1700280"/>
            <a:ext cx="8645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смысловой памя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0" name="Chart 2" descr=""/>
          <p:cNvPicPr/>
          <p:nvPr/>
        </p:nvPicPr>
        <p:blipFill>
          <a:blip r:embed="rId1"/>
          <a:stretch/>
        </p:blipFill>
        <p:spPr>
          <a:xfrm>
            <a:off x="249120" y="1773360"/>
            <a:ext cx="84250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логического мыш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2" name="Chart 3" descr=""/>
          <p:cNvPicPr/>
          <p:nvPr/>
        </p:nvPicPr>
        <p:blipFill>
          <a:blip r:embed="rId1"/>
          <a:stretch/>
        </p:blipFill>
        <p:spPr>
          <a:xfrm>
            <a:off x="324000" y="1981080"/>
            <a:ext cx="8570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понятийного мыш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4" name="Chart 5" descr=""/>
          <p:cNvPicPr/>
          <p:nvPr/>
        </p:nvPicPr>
        <p:blipFill>
          <a:blip r:embed="rId1"/>
          <a:stretch/>
        </p:blipFill>
        <p:spPr>
          <a:xfrm>
            <a:off x="463680" y="1768320"/>
            <a:ext cx="85042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мотив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6" name="Chart 4" descr=""/>
          <p:cNvPicPr/>
          <p:nvPr/>
        </p:nvPicPr>
        <p:blipFill>
          <a:blip r:embed="rId1"/>
          <a:stretch/>
        </p:blipFill>
        <p:spPr>
          <a:xfrm>
            <a:off x="249120" y="1768320"/>
            <a:ext cx="87188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развития вним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8" name="Chart 3" descr=""/>
          <p:cNvPicPr/>
          <p:nvPr/>
        </p:nvPicPr>
        <p:blipFill>
          <a:blip r:embed="rId1"/>
          <a:stretch/>
        </p:blipFill>
        <p:spPr>
          <a:xfrm>
            <a:off x="463680" y="1768320"/>
            <a:ext cx="83563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школы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8077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образовательная школа должна формировать целостную систему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универсальных знаний, умений, навыков, а также опыт самостоятельной деятельности и личной ответственности обучающих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с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ые компетен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пределяющие современное качество содержания образования.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172880"/>
            <a:ext cx="7524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Компетенция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это знание, опыт, умение по кругу вопросов, в которых кто-либо хорошо осведомлен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67920" y="3192480"/>
            <a:ext cx="7489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Компетентность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то качество владения знаниями, умениями, навыками, проявление компетенции в деятельности.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96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аким образом формируется компетенция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26920" y="2060280"/>
            <a:ext cx="74232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предметного материала  через  решение практических зада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26920" y="6093000"/>
            <a:ext cx="6472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грация предметов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26920" y="2781360"/>
            <a:ext cx="6400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едение метапредметности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85880" y="3357720"/>
            <a:ext cx="658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57160" y="3929040"/>
            <a:ext cx="6400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ная деятельность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57160" y="4437000"/>
            <a:ext cx="665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личные виды творческой деятельности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57160" y="5072040"/>
            <a:ext cx="6400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ллективные формы работы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26920" y="5589720"/>
            <a:ext cx="6400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вые формы оценивания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ета-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а» - («за», «через», «над», всеобщее, интегрирующее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это называют универсальными учебными действиями (УУ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- мысле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етазн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я о знании, о том, как оно устроено и структурировано; знания о получении знаний, т.е. приёмы и методы познания (когнитивные умения) и о возможностях работы с ни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ывают на знания, касающиеся способов использования знаний, и знания, касающиеся свойств знаний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знания лежат в основе развития человека, превращая его из «знающего» в «думающего»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3:05:25Z</dcterms:created>
  <dc:creator>Alex</dc:creator>
  <dc:description/>
  <dc:language>en-US</dc:language>
  <cp:lastModifiedBy>Моноблок 4</cp:lastModifiedBy>
  <dcterms:modified xsi:type="dcterms:W3CDTF">2022-03-24T00:30:30Z</dcterms:modified>
  <cp:revision>88</cp:revision>
  <dc:subject/>
  <dc:title>Технология проведения «Мастер - класс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